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A73-1FF1-4355-A149-8B1BCC6E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179-9DB5-45C4-895B-FE44C15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2A8-5D4C-448E-9673-FC3FDA19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590-3632-4998-AB11-2BF95906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770-CFF8-4AAF-B4B4-CCF17E7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D73-31CF-4B52-8D2A-F53BADA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AB2-3CF7-433C-9738-12C2734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E31-31A5-47FB-B262-874230F7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5E9-E4C6-4985-ADCD-194F47C1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9EB-0B84-499A-9719-D452FDB8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FB5-162C-4B08-B33D-D6FC129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828-AEC8-4E9E-B2AD-96F4D50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BE2-B4F6-4DF3-AFD7-F32A88979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kentucky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flags/kentucky/kentuckyflag.s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Cardinalprintout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subjects/butterfly/activities/printouts/viceroyprintout.s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80360" y="49528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Ryg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905120"/>
            <a:ext cx="62485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Impact"/>
              </a:rPr>
              <a:t>Kentuck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99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16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iftyStat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Frank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it Entered the Union: June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7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Entered the Union: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Blue Gras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Golden R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My old Kentucky Home By Stephan F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Kentucky is from the Iroquois Indians word ken-tah-ten which means land of Tomor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State Gem stone is the Fortification Agate with red and black and yellow Banding. State mineral is Coal. The state insect is the Viceroy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280"/>
            <a:ext cx="447228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119480"/>
            <a:ext cx="47246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40" y="3352680"/>
            <a:ext cx="90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10/25/11, http://www.enchantedlearning.com/usa/states/kentuck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5400" y="525780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0560" y="140796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2280" y="228600"/>
            <a:ext cx="272880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753080"/>
            <a:ext cx="304812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42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enchantedlearning.com/usa/states/kentuck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720" y="559908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Kentucky's State insect.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roy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960" y="171288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Kentucky’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the Ca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Natural Bridge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30492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Natural Bridge in Slade Kentucky. It’s a 40-foot thick natural sandstone bridge that spans 85 feet over a hill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8672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25/11, http://www.postcardsfrom.com/t1/99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0Z</dcterms:created>
  <dc:creator>install</dc:creator>
  <dc:description/>
  <dc:language>en-US</dc:language>
  <cp:lastModifiedBy>install</cp:lastModifiedBy>
  <dcterms:modified xsi:type="dcterms:W3CDTF">2011-10-27T13:38:26Z</dcterms:modified>
  <cp:revision>13</cp:revision>
  <dc:subject/>
  <dc:title>Slide 1</dc:title>
</cp:coreProperties>
</file>